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B900-15F1-449B-B2E1-D21094126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BC01-B6D4-42E4-8677-DF70B8D7A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2812-EBB2-4094-8602-0238CE99F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D8A3-10C9-43A1-BE42-C08DD0ADF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99C2-3676-4630-B32E-A2F39E3A7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98A8-0652-4CD8-A68B-0CE29CB4C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E849-EADD-4B4D-80EB-C400924D4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0000-53D5-4E00-B2DC-375999A05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FE24-87EC-437B-AB4D-E441F0D79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2970-183D-4C03-9E2A-F07ADDE96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F909-2CB8-46E0-9413-A3FEC20C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4289-9C72-4913-A30E-2F131C6E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1648-1BEE-4B85-8419-09B0603BD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Like Where I 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ence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Arial"/>
              </a:rPr>
              <a:t>I got up early so I could enjoy a full game of football.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I need to warm a cup of milk and boil the pudding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Look, one of my eyes has a cut underneath it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You must put the pail of water and the pile of wood near the soil for the garden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75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That cookie is full of sugar,” said Uncle Gus in a playful voice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Last summer some boys and I took care of a bulldog and other animals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0T02:14:18Z</dcterms:created>
  <dc:creator>Jenny  Brandon</dc:creator>
  <dc:description/>
  <dc:language>en-US</dc:language>
  <cp:lastModifiedBy>teacher</cp:lastModifiedBy>
  <dcterms:modified xsi:type="dcterms:W3CDTF">2011-01-20T15:57:38Z</dcterms:modified>
  <cp:revision>2</cp:revision>
  <dc:subject/>
  <dc:title>I Like Where I Am</dc:title>
</cp:coreProperties>
</file>